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BD3-2F44-4423-A839-F5072700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BC3-B7AF-4049-9573-4A34E3C7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E3C-7183-47D8-AC5B-001C92B3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E58-7A48-4ABD-BCEB-4D17F5BD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B4ED-1BA3-49CE-A85C-038FC378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CE1B-79B8-4A05-924E-628BD5D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50E0-0E66-4723-B88B-54A0A240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18F-282F-4422-A6B1-6F1D2EC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138-5391-43AA-84F3-14D185E4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B3B7-0E85-4B09-AE9C-23D10EC7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E4C-B84F-4785-8B34-4785F0D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172-0794-4E13-ADC7-C5A78F2C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3F1F-6A73-4598-8696-6B6B545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2038-D4CF-4D31-ACA3-201E83D7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6352-DFF5-4F40-A9DA-3F43013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B8FA-8184-4AD9-9227-97EDAB0A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DA95-8BE6-49BB-927C-6AF77137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969-73EF-4036-B2CE-2CF7950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7FB-FDA3-45DB-B3DF-4C9DEE9E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8A2-AD2E-4A96-9670-C7ED363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D1D-1D5E-4BC9-B168-5130BDEF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4BF-2160-4515-917A-C1F11CE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57F-4D0C-4680-97ED-2285EA2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E2E-B706-4A17-8FE3-876CCB2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39EF-3026-4E08-937F-4128D4DEC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A0BA-C6D1-45AC-9131-A45375A45D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1"/>
                </a:solidFill>
                <a:latin typeface="Times New Roman"/>
              </a:rPr>
              <a:t>Till There Was No Remedy</a:t>
            </a:r>
            <a:br>
              <a:rPr sz="4400"/>
            </a:br>
            <a:r>
              <a:rPr b="0" lang="en-US" sz="4400" spc="-1" strike="noStrike">
                <a:solidFill>
                  <a:srgbClr val="ffffe1"/>
                </a:solidFill>
                <a:latin typeface="Times New Roman"/>
              </a:rPr>
              <a:t>(The Divided Kingdom -1)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rter 6, Lesson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s. 81-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Kings 13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1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362320"/>
            <a:ext cx="60948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1523880"/>
            <a:ext cx="76320" cy="838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1828800"/>
            <a:ext cx="7632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24080" y="4800240"/>
            <a:ext cx="7632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437920" y="4419720"/>
            <a:ext cx="762120" cy="380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71800" y="3885840"/>
            <a:ext cx="533520" cy="1219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Judah and Isra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oash is repairing the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Priest, Jehoida, dies at 1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Joash compromises with idolatry 2 Chron.24:1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Zechariah rebukes and is stoned for telling the truth – 2 Chron.24:20-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ehoahaz begins his evil 17 yr. 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Israelites brought low by God through the Syr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ehoash – Israel’s 12</a:t>
            </a:r>
            <a:r>
              <a:rPr b="0" lang="en-US" sz="2400" spc="-1" strike="noStrike" baseline="30000">
                <a:solidFill>
                  <a:srgbClr val="ffffe1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16 evil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e1"/>
                </a:solidFill>
                <a:latin typeface="Times New Roman"/>
              </a:rPr>
              <a:t>Judah and Isra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Juda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Death of Joash – 2 Kgs.12:19-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Amaziah – co-regent with Joash for about 2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e1"/>
                </a:solidFill>
                <a:latin typeface="Arial"/>
              </a:rPr>
              <a:t>Amaziah’s character -2 Kgs.14:1-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e1"/>
                </a:solidFill>
                <a:latin typeface="Arial"/>
              </a:rPr>
              <a:t>Avenges his father’s death -5-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Jehoahaz dies – 2 Kgs 13:8-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Hazael of Syria dies – 2 Kgs.13:22-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ffffe1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 year of Jo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e1"/>
                </a:solidFill>
                <a:latin typeface="Arial"/>
              </a:rPr>
              <a:t>Elisha’s death-bed prophecy – 2 Kgs.13:14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4:17:13Z</dcterms:created>
  <dc:creator>Terry W. Benton</dc:creator>
  <dc:description/>
  <dc:language>en-US</dc:language>
  <cp:lastModifiedBy>Terry W. Benton</cp:lastModifiedBy>
  <dcterms:modified xsi:type="dcterms:W3CDTF">2005-09-08T16:45:31Z</dcterms:modified>
  <cp:revision>1</cp:revision>
  <dc:subject/>
  <dc:title>Till There Was No Remedy (The Divided Kingdom -1)</dc:title>
</cp:coreProperties>
</file>